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2588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7320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180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814560" y="1080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-180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3814560" y="9376920"/>
            <a:ext cx="2917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BC679A2-620F-4C12-B4EF-10FE3382DFEE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Img"/>
          </p:nvPr>
        </p:nvSpPr>
        <p:spPr>
          <a:xfrm>
            <a:off x="1063800" y="86040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ink da precise indicazioni ad app_002.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Per costruire una scala di Osgood è necessari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dividuare l’oggetto sul quale si vogliono raccogliere atteggiamenti o reazion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le coppie di aggettivi adatti a valutare l’oggetto. Si devono scegliere aggettivi che possono essere applicati ai concetti prescelti e riferiti a tre dimensioni fondamentali: la valutazione (correlata alle coppie buono/cattivo; positivo/negativo; gentile/sgarbato); la potenza (forte/debole; leggero/pesante; aggressivo/pacifico) e l’attività (veloce/lento; attivo/passivo; giovane/vecchio) o almeno ad una di queste dimensioni. Per ogni scala si stabilisce un numero di punti corrispondenti al nuemro di intervalli prefissato (generalment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crivere la parola o la frase che designa l’oggetto della valutazione e farla seguire da aggettivi come nell’esempio sopra riportat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piegare, nelle istruzioni alla scala, che bisogna rispondere alla prova velocemente sulla base della prima impressione e senza riflettere trop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Quesito a scelat multipla. Risposte esatta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sa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atto.  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ck risposta erra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ttenzione. La risposta selezionata non è corre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Feedbak risposta non fornit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ome detto la Scala di Likert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è composta da una o più domande che presentano una serie di affermazioni rispetto alle quali si chiede al soggetto di esprimere il proprio grado di accordo utilizzando una scala generalmente a cinque intervalli di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mmagi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agine 730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Nota programmatore pop up su cautele metodologi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esto del pop up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hiarire l’argomento generale del colloquio, insieme agli obiettivi e agli scopi. La predeterminazione degli stimoli e delle risposte possibili consente al valutatore di mettere a punto una griglia, da utilizzare nel corso del colloquio, per registrare, con segni di codifica molto semplici la risposte che vengono date e comunque di poter valutare i dati raccolti con massima obiettività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iare il discorso da una domanda generale, per dare a ogni soggetto la possibilità di impostare il colloquio nel modo che ritiene più adegu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Evitare di condizionare le risposte e di assumere comportamenti, verbali, non verbali che possano dimostrare disapprovazione o pregiudizi verso ciò che l’interlocutore sta dicendo. La strategia che si suggerisce di adottare è quella di partire da ciò che il soggetto esaminato decide di dire, nel modo che preferisce e nell’ordine di successione degli argomenti che sceglie, e solo successivamente intervenire per chiedere chiarimenti, precisazioni integra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ota programmato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inventari della personalit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 tre metodi che generalmente si usano per misurare la personalità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utodescrizioni fornite dai sogget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est e tecniche proiettive che richiedono al soggetto di descrivere o interpretare materiale verbale o vis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Osservazione del comportamento, basata sulla registrazione di informazioni da parte di un osservatore esterno attraverso l’impiego di diverse tecniche di osservazione: liste di controllo, analisi dei comportamenti espressivi e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tecniche per la misurazione degli interes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li interessi sono generalmente misurati tramite questionari (inventari) che utilizzano sia domande della scala di atteggiamento sia quesiti autovalutativi. Vengono utilizzati per l’orientamento scolastico-profession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grafico imamgine 730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a programmatore: quesito a scelta multipla. Risposta esatt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atto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enzione, l’opzione da te selezionata non è corret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eedback risposta non forn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cco la risposta corretta. L’atteggiamento è infatt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 (ad esempio l’introduzione dell’Euro). Il fatto di mostrare una forte carica aggressiva in situazioni di stress è un tratto della personalità, il soffrire d’insonnia un disturbo (la cui origine dovrebbe essere indagata), il quoziente intellettivo è invece una capacità o facoltà psicolog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65240" y="860400"/>
            <a:ext cx="4600440" cy="34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37400" cy="414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ta programmat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709-CB96-46AC-A522-B0994F84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080-1DC8-4424-9B9A-ED48D1E3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027-C6DA-4FD9-8E89-08629610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27D-F46E-44E8-9A16-CEFE6083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1F92-1E03-4977-8B31-ED371241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A18-35D5-4E98-AAA8-E1C3F035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DB5-F713-4954-8659-94E7F667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DED-67F4-46C6-B394-55C5CEFA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8DD-8F21-4A05-B860-6378C800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B16-191D-4FA7-882C-5E17A1BE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15B-3699-4CDB-80BC-3A3DF343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BE6-8397-4C5F-90C2-23C5E037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9144000" cy="380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845820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7620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3049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6477120" y="63784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2688" y="10800"/>
                </a:moveTo>
                <a:lnTo>
                  <a:pt x="23194" y="3794"/>
                </a:lnTo>
                <a:lnTo>
                  <a:pt x="23194" y="17806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10843" y="3794"/>
                </a:lnTo>
                <a:lnTo>
                  <a:pt x="10843" y="17806"/>
                </a:lnTo>
                <a:lnTo>
                  <a:pt x="918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760" y="-108000"/>
            <a:ext cx="90932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3. Tecniche e strumenti di rile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3.7. Prove di personalità e atte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11840" y="349200"/>
            <a:ext cx="1799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</a:t>
            </a:r>
            <a:fld id="{CE4E606A-DB03-4D13-A97C-E9B56EF449A3}" type="slidenum">
              <a:rPr b="1" lang="en-US" sz="1600" spc="-1" strike="noStrike">
                <a:solidFill>
                  <a:srgbClr val="eaeaea"/>
                </a:solidFill>
                <a:latin typeface="Tahoma"/>
              </a:rPr>
              <a:t>&lt;number&gt;</a:t>
            </a:fld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 di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46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47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C41A-26DE-458A-8FB1-BB096CA53C6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996840"/>
            <a:ext cx="205740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 questa 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514600"/>
            <a:ext cx="8076960" cy="25146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372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questa lezione saranno trattati i seguenti argomen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68760"/>
            <a:ext cx="4800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5257800"/>
            <a:ext cx="807696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i clic sul pulsante           per iniziare, o seleziona un titolo per andare direttamente all’argomento che ti interes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2311560" y="5321160"/>
            <a:ext cx="355320" cy="254160"/>
          </a:xfrm>
          <a:custGeom>
            <a:avLst/>
            <a:gdLst>
              <a:gd name="textAreaLeft" fmla="*/ 16200 w 355320"/>
              <a:gd name="textAreaRight" fmla="*/ 339120 w 355320"/>
              <a:gd name="textAreaTop" fmla="*/ 16200 h 254160"/>
              <a:gd name="textAreaBottom" fmla="*/ 237960 h 25416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85" h="21600">
                <a:moveTo>
                  <a:pt x="8086" y="3794"/>
                </a:moveTo>
                <a:lnTo>
                  <a:pt x="22099" y="10800"/>
                </a:lnTo>
                <a:lnTo>
                  <a:pt x="80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78137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0" y="2133720"/>
            <a:ext cx="39625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evalentemente utilizzato nella misura degli atteggiamenti è costituito dai differenti tipi delle cosiddett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Le scale di atteggiamento più diffuse sono quelle di Thurstone, Likert, Osgo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4387680"/>
            <a:ext cx="2286000" cy="398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36720" y="2770200"/>
            <a:ext cx="2518560" cy="398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73600" y="3608280"/>
            <a:ext cx="1963800" cy="39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3276720"/>
            <a:ext cx="7162920" cy="228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371600"/>
            <a:ext cx="83059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Thurston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siste in un elenco di affermazioni che esprimono una gamma di opinioni realative al’oggetto dell’atteggiamento: un fatto, una situaizone, una person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affermazioni devono rappresentare le opzioni possibili, dall’atteggiamento più favorevole a quello meno favorevo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mpito dei soggetti è quello di elencare le affermazioni con le quali si è in accordo o in disaccor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Thur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9240" y="3630600"/>
            <a:ext cx="41799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farsi rispettare dai più gi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 necessario i più vecchi possono picchiare i più piccoli per farsi obbed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I più vecchi devono sacrificarsi per aiutare i più giuova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12720" y="335916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362280" y="335268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4480" y="34290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1447920"/>
            <a:ext cx="83818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Likert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o metodo dei punteggi sommati è statat proposta per la prima volta intorno agli anni trenta (Likert 1932). Essa consente, meglio do quella di Thurstone di rilevare l’intensità di un atteggiamento e risulta essere oggi la procedura più utilizzata nella rilevazione degli atteggiame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e domande che compongono questa scala presentano una serie di affermazioni rispetto alle quali si chiede al soggetto di esprimere il proprio grado di accordo utilizzando una scala generalmente a cinque intervalli di rispo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Lik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05320"/>
            <a:ext cx="8076960" cy="220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96540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cuni insegnanti sanno coinvolgere gli studenti nelle loro lezion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i insegnanti dovrebbero essere pagati di pi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24560" y="3521160"/>
            <a:ext cx="103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75360" y="3581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93400" y="358128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’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46200" y="35812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n 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0" y="3505320"/>
            <a:ext cx="114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isacco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35812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442880"/>
            <a:ext cx="861084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cala di Osgood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detta anche ‘differenziale semantico’ è stata elaborata, intornoagli anni ’50 da Osgood, Suci e Tanembaum. Obiettivo di questo strumento è quello di rilevare il grado di tensione emotiva, positiva o negativa, verso un dato concetto o term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a scala può essere costruita utilizzando un qualunque tipo di coppie di aggettivi bipolari: sia aderenti alla realtà dell’oggetto da valutare, sia indipendenti dalla realtà dell’oggetto (nel senso che sono oggettivi che solitamente non si applicano all’oggetto da valuta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eaeaea"/>
                </a:solidFill>
                <a:latin typeface="Tahoma"/>
              </a:rPr>
              <a:t>La scala di Os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3276720"/>
            <a:ext cx="6553080" cy="243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nt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309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309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388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81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81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960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4532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4532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5324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265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265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344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837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837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916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409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09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488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98160" y="3962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8160" y="4343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06080" y="4800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2200" y="3965400"/>
            <a:ext cx="990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ffic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argi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33526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utazione della form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3341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empio di differenziale semantico con aggettivi aderenti alla realtà dell’ogge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197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78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81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86800" y="5835600"/>
            <a:ext cx="429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Tahoma"/>
              </a:rPr>
              <a:t>Fai clic qui per avere maggiori inform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00200"/>
            <a:ext cx="7759440" cy="337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 tipo di scala è quella rappresentat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958680"/>
            <a:ext cx="30477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ogget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280" y="4114800"/>
            <a:ext cx="6629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di 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cala di OSsg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1040" y="553068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e risposte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209680"/>
            <a:ext cx="8076960" cy="1600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2670120"/>
            <a:ext cx="220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livello di interesse al corso da parte tua è st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68560" y="222552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6200" y="22860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73760" y="2286000"/>
            <a:ext cx="6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0040" y="228600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91240" y="2209680"/>
            <a:ext cx="7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819520" y="2286000"/>
            <a:ext cx="4419360" cy="1523880"/>
            <a:chOff x="2819520" y="2286000"/>
            <a:chExt cx="4419360" cy="1523880"/>
          </a:xfrm>
        </p:grpSpPr>
        <p:sp>
          <p:nvSpPr>
            <p:cNvPr id="274" name=""/>
            <p:cNvSpPr/>
            <p:nvPr/>
          </p:nvSpPr>
          <p:spPr>
            <a:xfrm>
              <a:off x="388620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2286000"/>
              <a:ext cx="0" cy="14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8880" y="2286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04920" y="914400"/>
            <a:ext cx="12952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Riepi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1447920"/>
            <a:ext cx="7925040" cy="4572000"/>
          </a:xfrm>
          <a:prstGeom prst="rect">
            <a:avLst/>
          </a:prstGeom>
          <a:noFill/>
          <a:ln w="507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447920"/>
            <a:ext cx="7696080" cy="44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Riepilogando quanto visto finora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 le ricerche riguardanti la misurazione e lo studio della psiche umana, del carattere, delle intenzioni e dell’intelligenza degli individui sono state costruite appositi strumenti di valutazione e  misura tra che possiamo classificare in due grandi categori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atteggia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sono costituite in gran parte da test di varia natura in particol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a misura degli atteggiamenti avviene utilizzando le cosidette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scale di atteggiamen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sono costituite da un elenco di affermazioni relative a un determinato argomento o una data situazione. I soggetti sono invitati a esprimere il loro accordo o disaccordo con ciascuna delle affermazioni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 scale di atteggiamento più diffuse sono quelle di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hur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Like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Osgoo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029200" y="1600200"/>
            <a:ext cx="396252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 misurazione e lo studio della psiche umana, del carattere, delle intenzioni e dell’intelligenza degli individui ha sempre affascinato i ricercatori nel campo dell’educazione della formazione e della psicolog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questo tipo di ricerche sono state costruite appositi strumenti di valutazione e  misura tra che possiamo classificare in due grandi categori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e di atteggi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990720"/>
            <a:ext cx="1523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ntrodu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Stock_000000212340_1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4572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0" y="2895480"/>
            <a:ext cx="43434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ve di personalità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no infatti costituite in gran parte da test di varia natura. Tra i principali tipi di test analizzere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intelligenza o abilità gene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attitudine (o attitudinal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958680"/>
            <a:ext cx="28191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Le prove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73119" descr=""/>
          <p:cNvPicPr/>
          <p:nvPr/>
        </p:nvPicPr>
        <p:blipFill>
          <a:blip r:embed="rId1"/>
          <a:stretch/>
        </p:blipFill>
        <p:spPr>
          <a:xfrm>
            <a:off x="685800" y="1949400"/>
            <a:ext cx="2717640" cy="372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90920" y="1371600"/>
            <a:ext cx="2666880" cy="1371600"/>
          </a:xfrm>
          <a:prstGeom prst="wedgeRectCallout">
            <a:avLst>
              <a:gd name="adj1" fmla="val -49462"/>
              <a:gd name="adj2" fmla="val 99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diamo ora quali sono le principali tipologie prove di personalità in relazione alle funzioni che essi intendono assolv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0" y="1482840"/>
            <a:ext cx="42670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st di intelligenz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surano abilità intellettive apprese senza un insegnamento specifico, come ad esempio, la capacità logica, l’intuizione, le correlazioni tra simboli numeri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entrano in questo tipo di test: prove di abilità di attenzione, prove di abilità percettive, prove di abilità di memoria, prove di abilità linguistica, prove di abilità di ragionamento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lmente questi test danno luogo a un unico punteggio, ossia esprimono un quoziente di intelligenza (QI), che indica il livello intellettuale totale di un soggetto relativamente alla prestazione ha quello stesso test di un gruppo confrontab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958680"/>
            <a:ext cx="25905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 intelli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819000" y="1600200"/>
            <a:ext cx="3219480" cy="4108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04920" y="4267080"/>
            <a:ext cx="2286000" cy="838440"/>
          </a:xfrm>
          <a:prstGeom prst="wedgeRectCallout">
            <a:avLst>
              <a:gd name="adj1" fmla="val 32916"/>
              <a:gd name="adj2" fmla="val -95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 dico G, F, M, A, quale sarà la prossima lette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958680"/>
            <a:ext cx="26668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I test attitudi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600200"/>
            <a:ext cx="4267080" cy="46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attitudine o attitudinal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sono basati sulle concezioni fattoriali dell’intelligenza e forniscono punteggi relativi alle diverse attitudini misurate in un soggett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 differenza dei test di intelligenza che misurano una funzione ‘astratta’, queste prove trattano abilità più concrete (attitudini musicali, artistiche, meccaniche ec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ono utilizzati nella selezione del personale, per l’ammissione a corsi di addestramento, per l’orientamento professionale ec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si servono infatti a verificare le attitudini in relazione a mansioni e a ruoli cui saranno destinati i soggetti selezionati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73093" descr=""/>
          <p:cNvPicPr/>
          <p:nvPr/>
        </p:nvPicPr>
        <p:blipFill>
          <a:blip r:embed="rId1"/>
          <a:stretch/>
        </p:blipFill>
        <p:spPr>
          <a:xfrm>
            <a:off x="838080" y="1835280"/>
            <a:ext cx="2884680" cy="3949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4648320"/>
            <a:ext cx="2743200" cy="1218960"/>
          </a:xfrm>
          <a:prstGeom prst="wedgeRectCallout">
            <a:avLst>
              <a:gd name="adj1" fmla="val -6597"/>
              <a:gd name="adj2" fmla="val -119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l test risulta una buona propensione nella gestione di progetti, ha mai avuto esperienze lavorative di questo tip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6320" y="958680"/>
            <a:ext cx="236196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ahoma"/>
              </a:rPr>
              <a:t>I test di personal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600200"/>
            <a:ext cx="8458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test di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efiniti anche test non cognitivi, servono a valutare tutti quegli aspetti o tratti della personalità del soggetto, distinti dalle abilità cognitive come la motivazione, i sentimenti, i rapporti interpers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cco alcune variabili che possono essere misurate con i test dlla personalit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5276880"/>
            <a:ext cx="1151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3048120"/>
            <a:ext cx="3124080" cy="946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aratter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si riferisce alla misura in cui un soggetto si adegua a criteri largamente accettati di comportamento etico o moral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3048120"/>
            <a:ext cx="3124080" cy="1159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Tratti social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ossia il comportamento di un individuao nei confronti di altre persone (timidezza, malinconia, umorisomo ec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4267080"/>
            <a:ext cx="2895480" cy="946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dattamento situazional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: aspetti oggettivamente buoni o cattivi dell’ambiente familiare o scolastico di un ragaz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6000" y="4724280"/>
            <a:ext cx="193788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lattia 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48640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Generalmente i test di personalità sono distiinti i tre categorie principali: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inventari della personalità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Tahoma"/>
              </a:rPr>
              <a:t>tecniche per la misurazione degli interess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1833480"/>
            <a:ext cx="42670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Lo strumento privilegiato per la misurazione delle variabili concernenti al dimensione affettivo esperenziale è rappresentato dalle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ve di atteggiament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tteggiamen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intendiam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sistema stabile di valutazioni positive o negative, di sentimenti effettivi e di tendenze ad agire pro o contro rispetto a un oggetto soci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Il concetto di atteggiamento non è solo caratterizzato dalla direzione a favore o sfavore di un certo oggetto ma anche dal grado di accordo o disaccordo definito come valen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3063" descr=""/>
          <p:cNvPicPr/>
          <p:nvPr/>
        </p:nvPicPr>
        <p:blipFill>
          <a:blip r:embed="rId1"/>
          <a:srcRect l="0" t="0" r="0" b="35904"/>
          <a:stretch/>
        </p:blipFill>
        <p:spPr>
          <a:xfrm>
            <a:off x="457200" y="2597040"/>
            <a:ext cx="3552840" cy="31179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600200"/>
            <a:ext cx="2133720" cy="1523880"/>
          </a:xfrm>
          <a:prstGeom prst="cloudCallout">
            <a:avLst>
              <a:gd name="adj1" fmla="val -44421"/>
              <a:gd name="adj2" fmla="val 512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glio allacciare la cintura… non si sa mai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447920" y="2836800"/>
            <a:ext cx="624816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mostra una forte carica aggressiva in situazioni di st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è favorevole all’introduzione dell’Eu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soffre di inson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l sig. Rossi ha un elevato quoziente intellet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958680"/>
            <a:ext cx="1981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serc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1600200"/>
            <a:ext cx="7759440" cy="580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tendo dalla definizione di atteggiamento, quale fra queste è la descrizione di un atteggiamento di un individuo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1040" y="5486400"/>
            <a:ext cx="74419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leziona la risposta di tua scelta e fai clic su ‘Conferma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648320" y="2133720"/>
            <a:ext cx="419076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isurare e quantificare gli atteggiamenti, con uno specifico strumento, non è però un compito facile. È infatti difficile rendere ‘oggettivi’ stati mentali soggettivi.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ncora più difficile se si tratta di misurare attegiamenti su temi scottan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nza contare che talvolta l’atteggiamento non coincide con il comportamento: ad esempio non ritengo la carta di credito uno strumento di pagamento sicuro ma per alcuni acquisti sono costretto ad usar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958680"/>
            <a:ext cx="3124080" cy="3373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e prove di atteggia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78145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1T18:57:48Z</dcterms:created>
  <dc:creator/>
  <dc:description/>
  <cp:keywords/>
  <dc:language>en-US</dc:language>
  <cp:lastModifiedBy>Università degli studi di Roma "La Sapienza"</cp:lastModifiedBy>
  <cp:lastPrinted>2000-05-14T18:13:16Z</cp:lastPrinted>
  <dcterms:modified xsi:type="dcterms:W3CDTF">2009-06-30T14:55:11Z</dcterms:modified>
  <cp:revision>320</cp:revision>
  <dc:subject>Presentazione piero</dc:subject>
  <dc:title>Presentazione forum P.A. del 9/05/96</dc:title>
</cp:coreProperties>
</file>